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2.png" ContentType="image/png"/>
  <Override PartName="/ppt/media/image10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670800" cy="977724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777240"/>
              <a:gd name="textAreaBottom" fmla="*/ 9776880 h 9777240"/>
            </a:gdLst>
            <a:ahLst/>
            <a:rect l="textAreaLeft" t="textAreaTop" r="textAreaRight" b="textAreaBottom"/>
            <a:pathLst>
              <a:path w="21600" h="31658">
                <a:moveTo>
                  <a:pt x="5" y="0"/>
                </a:moveTo>
                <a:arcTo wR="5" hR="5" stAng="16200000" swAng="-5400000"/>
                <a:lnTo>
                  <a:pt x="0" y="31653"/>
                </a:lnTo>
                <a:arcTo wR="5" hR="5" stAng="10800000" swAng="-5400000"/>
                <a:lnTo>
                  <a:pt x="21595" y="3165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80560" y="716040"/>
            <a:ext cx="4907160" cy="367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888840" y="4637160"/>
            <a:ext cx="4889520" cy="4394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273960"/>
            <a:ext cx="2889360" cy="477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778200" y="9273960"/>
            <a:ext cx="2889360" cy="477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50EE7B-3B8F-4F17-A29A-6BF8770EE4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80920" y="716040"/>
            <a:ext cx="4908600" cy="36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888480" y="4636800"/>
            <a:ext cx="48913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844-E941-46DB-A8EA-CF9FCEBA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D36-6D40-48A8-BD48-4CE84C3B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9A3-E742-4D2A-B373-5D3620FD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646-7887-4823-B5B0-67D34E33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67D0-2D78-4932-970C-404D26A2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D251-25DC-4B96-B4D5-05D08328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487E-71DB-4904-A4E3-204921C4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3E25-C556-4611-8596-BA626212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E04A-8E44-474A-B927-0237E682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-231840"/>
            <a:ext cx="838044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3555-398A-4E5D-AAEA-9CCF23B5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78E0-48F7-44E5-8075-B7948927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1CE-A727-4EAB-A122-8BC9FD9E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3A16-F727-4DC7-8DC5-67B41A12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F321-B402-4E2F-9E63-B31BE335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BE86-9BAC-401D-87B1-0546A6FA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5FEF-4116-4C52-95E7-B5A84516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CDA4-6CCC-4745-8B3A-F49FEE72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0AB-29E0-46AE-8A2A-0A651C04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10A-0DD8-43A5-A251-5AF844CF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ED4-4A0B-41FD-893D-19728C3C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-231840"/>
            <a:ext cx="838044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52E-92D0-4327-91BA-74F54E7C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7FC-B010-4B73-96D7-FBA1F0E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786-E8A7-4FA1-958F-8F239A87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557-64D2-4418-BFB9-35C28CD2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31840"/>
            <a:ext cx="83804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476760"/>
            <a:ext cx="4418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AWG/2005/07/05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051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A3620C-F770-40BB-81D3-4D0126E1FC53}" type="slidenum"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3343320" cy="1224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7927920" y="5745240"/>
            <a:ext cx="83520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3BA1D2-B21A-4971-8E4B-44DDD49678A6}" type="slidenum"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3352680" cy="1602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04040" y="163440"/>
            <a:ext cx="1382760" cy="1589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3657600"/>
            <a:ext cx="2819160" cy="60948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19200" y="1890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159120" cy="6858000"/>
            <a:chOff x="0" y="0"/>
            <a:chExt cx="9159120" cy="68580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394360" y="400536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S010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23440" y="393372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S001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99080" y="393372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S008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23640" y="393372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S016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6840" y="15048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S1” 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048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BB stat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P interface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can be captured from the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can be fr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can be transported to C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mote writing the flash on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mware detection algorithm modeled, implemented and now unde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2050920" y="4464000"/>
            <a:ext cx="4608720" cy="2394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048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FAR Software Development (short ter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836640"/>
          <a:ext cx="28749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8749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276720" y="907920"/>
          <a:ext cx="287496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907920"/>
                    <a:ext cx="2874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269040" y="907920"/>
          <a:ext cx="2874960" cy="198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69040" y="907920"/>
                    <a:ext cx="2874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3645000"/>
          <a:ext cx="287028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645000"/>
                    <a:ext cx="2870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87640" y="3645000"/>
          <a:ext cx="3097080" cy="21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3645000"/>
                    <a:ext cx="30970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658200" y="429264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Times New Roman"/>
              </a:rPr>
              <a:t>Mid &amp; Long ter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3636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04640"/>
          <a:ext cx="8964720" cy="617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8964720" cy="61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048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al functionality after 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on beam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lay tracking and fringe st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 uStations / station availabl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16 uStations in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6 subb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ons specified/scheduled by SAS and controlled by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rdware monitored by 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ional off line pipeline: flagger, BBS and im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048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AN up to spe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rmally 32 subbands / uStation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s done to stress W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@ 160 MHz: 49 subbands (985 Mbps / 2 uS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@ 200 MHz: 39 subbands (990 Mbps / 2 uS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048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nday night measur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succesfull CAS A tracking measurement during the whole night at 200 MHz clock speed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653000"/>
            <a:ext cx="576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5048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ctral dif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572000" cy="3870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781280"/>
            <a:ext cx="4643280" cy="3484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93800" y="1123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60 MHz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29440" y="1123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00 MHz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5048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sue about the phase cent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am tracking phase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lay tracking / fringe stopping phase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hysical phase centre in MS for UVW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n: fixed before the next weekend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-16 centre position corrected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048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morrow during the day: storage down for testing and reconfig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